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3DCA-FB65-4C83-9C09-CD2FB565D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F03B-DC8C-462D-917D-C91E5AE81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921C-381E-4078-8DCD-955F7748B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9567-5FD3-4A30-9AC8-570E0BD4A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C0AB-D5D3-4613-8F28-F8B26CD62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C8E9-8325-4420-8D86-FD98D4F77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E10B-FB40-4457-92A2-4DA30F7FC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7B9D-70DB-4523-AAE8-EF001030E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9ADD-093D-459A-9088-34706E626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E137-8EAC-4C8E-BA83-7D15AA7E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263C-3D4C-4A8A-8844-A0965F55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2B4D-A60D-408F-8D00-2BFA9302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EB9F3-EEFD-4C4C-AC33-121D0D3E9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d You K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895480" y="2057400"/>
            <a:ext cx="33530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16:54:17Z</dcterms:created>
  <dc:creator>Jennifer Jenkins</dc:creator>
  <dc:description/>
  <dc:language>en-US</dc:language>
  <cp:lastModifiedBy>Jennifer Jenkins</cp:lastModifiedBy>
  <dcterms:modified xsi:type="dcterms:W3CDTF">2008-12-14T17:31:46Z</dcterms:modified>
  <cp:revision>3</cp:revision>
  <dc:subject/>
  <dc:title>Slide 1</dc:title>
</cp:coreProperties>
</file>